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48B7-0AC8-4A68-B816-EB220156C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CE7A-F9A1-41FA-B908-A5E4317F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213B-A939-4E24-B914-FB3D79749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B158-605B-4677-A8A4-0B8A68103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BA1A-1DA2-4061-8062-C045115D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4F87-263E-4581-8D73-F8A8E24A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9B11-BBBE-47FC-BBFC-A1AEBA99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7856-E70B-4499-8587-B6D0B410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115B-3D3A-44C0-8FB6-C93A8BD2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D706-CBFC-446E-94A6-491FAC69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8FC9-2DAD-4A09-85DF-5D2BAEF1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433E-B588-42BF-ACF7-5C7CF733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85C0-7B00-40F1-83F4-7CB2DCF8F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ameronartmuseum.com/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77920"/>
            <a:ext cx="838188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grated Art Lessons:</a:t>
            </a:r>
            <a:br>
              <a:rPr sz="36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lassroom Resource for Teachers</a:t>
            </a: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5238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Cameron Art Museu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3201 South 17</a:t>
            </a:r>
            <a:r>
              <a:rPr b="0" lang="en-US" sz="17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 Stree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Wilmington, North Carolina 284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ameronartmuseum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1040" y="3505320"/>
            <a:ext cx="7025040" cy="28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ooperation 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+ Schools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niversity of North Carolina at Greensb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O. Box 2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nsboro, North Carolina 27402-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plus-schools.uncg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ed by a grant from the Corning Found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or:  Martha Burd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3733920" cy="3402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91440" y="4267080"/>
            <a:ext cx="7383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ould y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a st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ome words you could use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your story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 or fantas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 Tell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bout the art and the ar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3962520"/>
            <a:ext cx="297180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 “Hatterask Lighthou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Jacques Busbee, American, 1870-19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oil on can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12” x 16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: 19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8968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3962520"/>
            <a:ext cx="297180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“Centaurs in Landscape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 Robert Broderson, American, 1920-19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oil on can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40” x 44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:  1960-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3886200" cy="2828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334120" y="914400"/>
            <a:ext cx="3124080" cy="2844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94840" y="5838840"/>
            <a:ext cx="704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else would you like to know about the art or the artis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you find ou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5105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Sevent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4495680"/>
            <a:ext cx="82296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Arts: fact and fantasy, setting, character, nar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thology, main idea and details, oral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Studies: land forms,  North Carolina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 Art: realism, abstraction, simplification, space,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3581280" cy="3263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91120" y="990720"/>
            <a:ext cx="4454280" cy="32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6248520" cy="5694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069200" y="6172200"/>
            <a:ext cx="71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 few minutes to look carefully at this pain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648320" cy="4235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6640" y="4648320"/>
            <a:ext cx="902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d you not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 you think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ke this might be f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point o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this scene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 or imagin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66880" y="304920"/>
            <a:ext cx="4114800" cy="3749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89440" y="4383000"/>
            <a:ext cx="819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ould y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is pain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offer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a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why we only see the ba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ir hea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imagine 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happening in this pain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086600" cy="5160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20" y="5715000"/>
            <a:ext cx="860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take a few minutes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is painting very carefu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4495680" cy="3273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99520" y="3581280"/>
            <a:ext cx="8381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at you see in this pain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notice abo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would we be likely to find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t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thi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point o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this painting is about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or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in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3962160" cy="2886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257800" y="615960"/>
            <a:ext cx="3200400" cy="2916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44240" y="3773520"/>
            <a:ext cx="6870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 and contra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se two paint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, space, subject, sty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re they alike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re they diffe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5120" y="228600"/>
            <a:ext cx="5105160" cy="3718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4191120"/>
            <a:ext cx="848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used this painting a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story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writing, how would you begin your st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a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uld you offer for the boat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hore with no people anywhere i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e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you create for your st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your story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 or fantas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 Tell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tha Burdette</cp:lastModifiedBy>
  <dcterms:modified xsi:type="dcterms:W3CDTF">2007-07-26T22:26:30Z</dcterms:modified>
  <cp:revision>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